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1DC-0018-45CF-971F-16017A25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7E0-E7EC-48FC-BF73-26CD51C6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FDA-F108-4160-B0FE-BB5A210A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BF0-A778-4058-B124-12740550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620-A15C-4B04-A1AA-D4D6C601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BE4-118D-403D-A3CC-F94D6FF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ED2-70DB-4990-9AA3-94B3965F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EBE-0510-483A-ABAF-4C179A6F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74E-4AD8-4301-AB6B-981C05F0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61E-E9DC-49D8-8244-D9AB71ED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390-C125-479C-953A-C66C6DB2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619-8542-430A-8140-021FB51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36D-096D-4900-84B1-301710558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-158760" y="792000"/>
            <a:ext cx="935820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lace in the desert made fertile by a steady supply of wa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781680" y="35053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C:\Documents and Settings\ISLPT168\My Documents\My Pictures\imagesCAAVJLY6.jpg"/>
          <p:cNvPicPr/>
          <p:nvPr/>
        </p:nvPicPr>
        <p:blipFill>
          <a:blip r:embed="rId1"/>
          <a:stretch/>
        </p:blipFill>
        <p:spPr>
          <a:xfrm>
            <a:off x="609480" y="2362320"/>
            <a:ext cx="5410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2590920" y="5486400"/>
            <a:ext cx="350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 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C:\Documents and Settings\ISLPT168\My Documents\My Pictures\zone1.jpg"/>
          <p:cNvPicPr/>
          <p:nvPr/>
        </p:nvPicPr>
        <p:blipFill>
          <a:blip r:embed="rId1"/>
          <a:stretch/>
        </p:blipFill>
        <p:spPr>
          <a:xfrm>
            <a:off x="228600" y="1752480"/>
            <a:ext cx="7772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difference between a lake and a peninsul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C:\Documents and Settings\ISLPT168\My Documents\My Pictures\imagesCA6RABCS.jpg"/>
          <p:cNvPicPr/>
          <p:nvPr/>
        </p:nvPicPr>
        <p:blipFill>
          <a:blip r:embed="rId1"/>
          <a:stretch/>
        </p:blipFill>
        <p:spPr>
          <a:xfrm>
            <a:off x="0" y="251460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Documents and Settings\ISLPT168\My Documents\My Pictures\imagesCA235OW3.jpg"/>
          <p:cNvPicPr/>
          <p:nvPr/>
        </p:nvPicPr>
        <p:blipFill>
          <a:blip r:embed="rId2"/>
          <a:stretch/>
        </p:blipFill>
        <p:spPr>
          <a:xfrm>
            <a:off x="5257800" y="259092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1523880" y="2590920"/>
            <a:ext cx="26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33412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enins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ke I completely surrounded by land. A peninsula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m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surrounded by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5" descr="C:\Documents and Settings\ISLPT168\Local Settings\Temporary Internet Files\Content.IE5\OXXBVYHM\MC900432618[1].png"/>
          <p:cNvPicPr/>
          <p:nvPr/>
        </p:nvPicPr>
        <p:blipFill>
          <a:blip r:embed="rId3"/>
          <a:stretch/>
        </p:blipFill>
        <p:spPr>
          <a:xfrm rot="1026600">
            <a:off x="6646680" y="4037040"/>
            <a:ext cx="19764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C:\Documents and Settings\ISLPT168\Local Settings\Temporary Internet Files\Content.IE5\OXXBVYHM\MC900432618[1].png"/>
          <p:cNvPicPr/>
          <p:nvPr/>
        </p:nvPicPr>
        <p:blipFill>
          <a:blip r:embed="rId4"/>
          <a:stretch/>
        </p:blipFill>
        <p:spPr>
          <a:xfrm rot="5586600">
            <a:off x="838440" y="3726720"/>
            <a:ext cx="16747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11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00"/>
                </a:solidFill>
                <a:latin typeface="Times New Roman"/>
              </a:rPr>
              <a:t>What is the differences between a hill and a mountain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38080" y="426708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A mountain is bigger than a hill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</a:rPr>
              <a:t>Critical Thinking Slide #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Times New Roman"/>
              </a:rPr>
              <a:t>What is the difference between a gulf and a b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38080" y="449568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A gulf is larger than a ba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4400" spc="-1" strike="noStrike">
                <a:solidFill>
                  <a:srgbClr val="0d0d0d"/>
                </a:solidFill>
                <a:latin typeface="Calibri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8672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Ravie"/>
              </a:rPr>
              <a:t>pl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C:\Documents and Settings\ISLPT168\Local Settings\Temporary Internet Files\Content.IE5\GJMJTFXH\MP900443143[1].jpg"/>
          <p:cNvPicPr/>
          <p:nvPr/>
        </p:nvPicPr>
        <p:blipFill>
          <a:blip r:embed="rId1"/>
          <a:stretch/>
        </p:blipFill>
        <p:spPr>
          <a:xfrm>
            <a:off x="762120" y="2209680"/>
            <a:ext cx="50720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gency FB"/>
              </a:rPr>
              <a:t>What is a 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040" y="24382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781680" y="21337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Ravie"/>
              </a:rPr>
              <a:t>c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C:\Documents and Settings\ISLPT168\Local Settings\Temporary Internet Files\Content.IE5\98VN46M9\MP900444498[1].jpg"/>
          <p:cNvPicPr/>
          <p:nvPr/>
        </p:nvPicPr>
        <p:blipFill>
          <a:blip r:embed="rId1"/>
          <a:stretch/>
        </p:blipFill>
        <p:spPr>
          <a:xfrm>
            <a:off x="1752480" y="213372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Were is the place where a river beg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5800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66"/>
                </a:solidFill>
                <a:latin typeface="Ravie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ISLPT168\Local Settings\Temporary Internet Files\Content.IE5\GJMJTFXH\MP900401709[1].jpg"/>
          <p:cNvPicPr/>
          <p:nvPr/>
        </p:nvPicPr>
        <p:blipFill>
          <a:blip r:embed="rId1"/>
          <a:stretch/>
        </p:blipFill>
        <p:spPr>
          <a:xfrm>
            <a:off x="1905120" y="2076480"/>
            <a:ext cx="4647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Times New Roman"/>
              </a:rPr>
              <a:t>What is Mountain created as liquid rock and ash erupt from the inside the ear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553080" y="3505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Ravie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ISLPT168\Local Settings\Temporary Internet Files\Content.IE5\98VN46M9\MP900425293[1].jpg"/>
          <p:cNvPicPr/>
          <p:nvPr/>
        </p:nvPicPr>
        <p:blipFill>
          <a:blip r:embed="rId2"/>
          <a:stretch/>
        </p:blipFill>
        <p:spPr>
          <a:xfrm>
            <a:off x="457200" y="22096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What is A high, flat landform that rises steeply above the surrounding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05720" y="3429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Ravie"/>
              </a:rPr>
              <a:t>Plat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Documents and Settings\ISLPT168\Local Settings\Temporary Internet Files\Content.IE5\8XYWN0MT\MP900185199[1].jpg"/>
          <p:cNvPicPr/>
          <p:nvPr/>
        </p:nvPicPr>
        <p:blipFill>
          <a:blip r:embed="rId1"/>
          <a:stretch/>
        </p:blipFill>
        <p:spPr>
          <a:xfrm>
            <a:off x="2209680" y="2438280"/>
            <a:ext cx="403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What is a Flat, low-lying land built up from soil carried downstream by a river and deposited at its mou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289512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C:\Documents and Settings\ISLPT168\Local Settings\Temporary Internet Files\Content.IE5\OXXBVYHM\MP900432748[1].jpg"/>
          <p:cNvPicPr/>
          <p:nvPr/>
        </p:nvPicPr>
        <p:blipFill>
          <a:blip r:embed="rId1"/>
          <a:stretch/>
        </p:blipFill>
        <p:spPr>
          <a:xfrm>
            <a:off x="1295280" y="2971800"/>
            <a:ext cx="495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uge sheet of ice that moves slowly across the land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Documents and Settings\ISLPT168\My Documents\My Pictures\imagesCARE2KF1.jpg"/>
          <p:cNvPicPr/>
          <p:nvPr/>
        </p:nvPicPr>
        <p:blipFill>
          <a:blip r:embed="rId1"/>
          <a:stretch/>
        </p:blipFill>
        <p:spPr>
          <a:xfrm>
            <a:off x="1066680" y="2133720"/>
            <a:ext cx="5032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very dry area where few plants grow calle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6629400" y="3429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C:\Documents and Settings\ISLPT168\My Documents\My Pictures\imagesCAGLEWEY.jpg"/>
          <p:cNvPicPr/>
          <p:nvPr/>
        </p:nvPicPr>
        <p:blipFill>
          <a:blip r:embed="rId1"/>
          <a:stretch/>
        </p:blipFill>
        <p:spPr>
          <a:xfrm>
            <a:off x="457200" y="2057400"/>
            <a:ext cx="5181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40:12Z</dcterms:modified>
  <cp:revision>42</cp:revision>
  <dc:subject/>
  <dc:title>PowerPoint Presentation</dc:title>
</cp:coreProperties>
</file>